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png" ContentType="image/png"/>
  <Override PartName="/ppt/media/image1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347-4521-4E62-B778-0CF745BA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532-231E-4F23-8EB6-BAE4D395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F71-2938-4CDB-A9E7-5CAC0F08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015-31B8-4E97-92CA-1197080F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303E-BA5D-4F2F-A178-4B169124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DC28-A5F1-469C-BE10-46F7DA6F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BFD6-5A6C-4661-BF93-6FD0D823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EFFF-9EFE-44D7-82D4-9EAFE7A8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554-E4C4-4306-ABC5-E3EF44AF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266A-475A-451D-B427-8ECBBD03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2616-67F9-442C-A6E0-A0A103D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5D4-3A05-4D5E-9805-C5904458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5985-2A04-40EB-9AEB-1F29A88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0630-2856-4CFD-9F8A-174BB71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C97B-BF94-4D9F-A0DE-1EB8715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DCF1-D8E4-45C0-8BFE-ABC5C28E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F52B-21B5-4E05-9F54-8509623A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F61-57DE-446E-ABD2-1AC3EE08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52B-617B-498F-960C-BD55FA69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A09-B633-45B2-B15F-4D41EB55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5E0-D77F-486C-BD02-EA8A1E65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51C-3D0C-4EDF-B9FA-E84B225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88F-9421-44D8-B929-E992BC2F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CE1-1F37-487A-8F61-F50925B7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63F4-27C1-43E1-96D3-E27D68D4C74C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42C6-C4F2-458F-B9BC-C7DC76436423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33"/>
                </a:solidFill>
                <a:latin typeface="Microsoft Sans Serif"/>
              </a:rPr>
              <a:t>O  p a p i e r o s i e – czyli…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icrosoft Sans Serif"/>
              </a:rPr>
              <a:t>co</a:t>
            </a: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Microsoft Sans Serif"/>
              </a:rPr>
              <a:t>każdy</a:t>
            </a: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Microsoft Sans Serif"/>
              </a:rPr>
              <a:t>wiedzieć</a:t>
            </a:r>
            <a:r>
              <a:rPr b="0" lang="en-US" sz="36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Microsoft Sans Serif"/>
              </a:rPr>
              <a:t>powin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icrosoft Sans Serif"/>
              </a:rPr>
              <a:t>Jolanta Chole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51480" y="2036880"/>
            <a:ext cx="243216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3680" y="404640"/>
            <a:ext cx="8082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6633"/>
                </a:solidFill>
                <a:latin typeface="Garamond"/>
              </a:rPr>
              <a:t>cd.</a:t>
            </a:r>
            <a:endParaRPr b="0" lang="en-US" sz="23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1125360"/>
          <a:ext cx="8229600" cy="5062680"/>
        </p:xfrm>
        <a:graphic>
          <a:graphicData uri="http://schemas.openxmlformats.org/drawingml/2006/table">
            <a:tbl>
              <a:tblPr/>
              <a:tblGrid>
                <a:gridCol w="4762440"/>
                <a:gridCol w="1789200"/>
                <a:gridCol w="167796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a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powiedz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3b81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k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3b812f">
                        <a:alpha val="50000"/>
                      </a:srgbClr>
                    </a:solidFill>
                  </a:tcPr>
                </a:tc>
              </a:tr>
              <a:tr h="401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zy częściej palisz papierosy w ciągu pierwszych godzin po przebudzeniu niż w pozostałej części dnia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7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401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zy palisz podczas choroby, która zmusza Cię do pozostania w łóżku przez większą część dnia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407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Jaka jest zawartość nikotyny w papierosach, które zwykle palisz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iej niż 0,9 m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-1.2 m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ad 1.2 m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401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zy zaciągasz się dymem tytoniowym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d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sam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wsz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comb dir="horz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PŁYW PALENIA PAPIEROSÓW 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A ZDROWIE CZŁOWIEK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wplyw palenia"/>
          <p:cNvPicPr/>
          <p:nvPr/>
        </p:nvPicPr>
        <p:blipFill>
          <a:blip r:embed="rId1"/>
          <a:stretch/>
        </p:blipFill>
        <p:spPr>
          <a:xfrm>
            <a:off x="1979640" y="2205000"/>
            <a:ext cx="4897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KUTKI PALENIA PAPIEROSÓW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otwory złośliwe: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Rak płu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Rak wargi, języka, jamy ustnej, przełyku i krtani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Rak pęcherza moczoweg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Rak nerki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Rak trzustki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oroba niedokrwienna ser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wlekłe zapalenie oskrzel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ruźlica układu oddechow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ciśnienie tętnic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terioscler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ar mózg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rzody żołądka oraz dwunastn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pukliny jelitow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łuca człowie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rzewo oskrzelow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12944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lenie tytoniu a ciąż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bie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ąca tytoń w ciąż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woduje, ż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j dziecko nie otrzymuje wystarczającej ilośc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óry jest potrzebny do prawidłowego wzrostu i rozwoj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wijające się w jej łonie dziecko jest zmuszane do kontaktu z praw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000 substancji chemiczn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 ty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rakotwórcz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óre są zawarte 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mie tytoniowy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ecko rodzi się znaczn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niejs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atniejsze na choro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 porównaniu z dziećmi, których mamy nie palą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iększa się ryzyk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plikacj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czasie cią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enie przez matkę w ciąży znacznie zwiększa ryzyko urodzen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twego dziec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czesnej śmierci noworod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społu nagłej śmierci niemowlę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zw. śmierci łóżeczkowej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rto wiedzieć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402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śli kobieta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pali po porodzi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i jednocześnie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karmi dziecko piersią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to dochodzi do przekazywania wielu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trujących substancj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z dymu tytoniowego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wraz z pokarmem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matki. Do pokarmu przechodzi np.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nikotyn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powodując u dziecka występowanie okresów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niepokoju, bezsenności, wymiotów, biegunek,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a także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niefizjologiczne przyspieszenie pracy serca i zaburzenia krążenia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3168720" cy="453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7940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mowlęta wdychające dy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papierosów wypalanych przez ich matki bądź ojców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razy części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padają na poważ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roby układu oddechow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apalenia płuc, oskrzeli, górnych dróg oddechow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za tym palenie papierosów przez rodziców w istotny sposó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iększa ryzyk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stąpien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tmy oskrzelowe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dziecka, a takż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zewlekłego zapalenia ucha środkow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óre jest główną przyczyn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łucho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wieku dziecięc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nieją także dowody na związek palenia tytoniu z innymi poważnymi chorobami, np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ałaczkami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AL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odpoczynek nr 2"/>
          <p:cNvPicPr/>
          <p:nvPr/>
        </p:nvPicPr>
        <p:blipFill>
          <a:blip r:embed="rId1"/>
          <a:stretch/>
        </p:blipFill>
        <p:spPr>
          <a:xfrm>
            <a:off x="1692360" y="2133720"/>
            <a:ext cx="6119640" cy="3743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" descr="Walka trwa"/>
          <p:cNvPicPr/>
          <p:nvPr/>
        </p:nvPicPr>
        <p:blipFill>
          <a:blip r:embed="rId1"/>
          <a:stretch/>
        </p:blipFill>
        <p:spPr>
          <a:xfrm>
            <a:off x="1692360" y="1413000"/>
            <a:ext cx="5676840" cy="3267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FAKTY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nie tytoniu j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brzymim problemem społecznym w Pol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jważniejsza przyczyna przedwczesnej umieralnoś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naszym kra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oł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000.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aków pali regularni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-20 sztuk papierosów dzienn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żdego rok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.000 zgonó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 Pols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 bezpośredni związ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 negatywnymi skutkami palenia tytoniu, przy czy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ad poło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 ni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0%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yczy osób 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eku 35-69 la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smierc i papierosy"/>
          <p:cNvPicPr/>
          <p:nvPr/>
        </p:nvPicPr>
        <p:blipFill>
          <a:blip r:embed="rId1"/>
          <a:stretch/>
        </p:blipFill>
        <p:spPr>
          <a:xfrm>
            <a:off x="2843280" y="1484280"/>
            <a:ext cx="3314520" cy="3990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63640" y="5589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yzja należy do ciebi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  <p:sndAc>
      <p:stSnd>
        <p:snd r:embed="rId2" name="camera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palacz"/>
          <p:cNvPicPr/>
          <p:nvPr/>
        </p:nvPicPr>
        <p:blipFill>
          <a:blip r:embed="rId1"/>
          <a:stretch/>
        </p:blipFill>
        <p:spPr>
          <a:xfrm>
            <a:off x="2268360" y="1916280"/>
            <a:ext cx="4824720" cy="3025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38080" y="524844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świat jest taki piękny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  <p:sndAc>
      <p:stSnd>
        <p:snd r:embed="rId2" name="camera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633"/>
                </a:solidFill>
                <a:latin typeface="Garamond"/>
              </a:rPr>
              <a:t>Pamiętaj, że nigdy </a:t>
            </a:r>
            <a:r>
              <a:rPr b="1" lang="en-US" sz="3900" spc="-1" strike="noStrike">
                <a:solidFill>
                  <a:srgbClr val="006633"/>
                </a:solidFill>
                <a:latin typeface="Garamond"/>
              </a:rPr>
              <a:t>nie jest za późno</a:t>
            </a:r>
            <a:r>
              <a:rPr b="0" lang="en-US" sz="3900" spc="-1" strike="noStrike">
                <a:solidFill>
                  <a:srgbClr val="006633"/>
                </a:solidFill>
                <a:latin typeface="Garamond"/>
              </a:rPr>
              <a:t> na rzucenie palenia. Nawet </a:t>
            </a:r>
            <a:r>
              <a:rPr b="1" lang="en-US" sz="3900" spc="-1" strike="noStrike">
                <a:solidFill>
                  <a:srgbClr val="006633"/>
                </a:solidFill>
                <a:latin typeface="Garamond"/>
              </a:rPr>
              <a:t>po 40 latach palenia</a:t>
            </a:r>
            <a:r>
              <a:rPr b="0" lang="en-US" sz="3900" spc="-1" strike="noStrike">
                <a:solidFill>
                  <a:srgbClr val="006633"/>
                </a:solidFill>
                <a:latin typeface="Garamond"/>
              </a:rPr>
              <a:t> twój organizm jest w stanie </a:t>
            </a:r>
            <a:r>
              <a:rPr b="1" lang="en-US" sz="3900" spc="-1" strike="noStrike">
                <a:solidFill>
                  <a:srgbClr val="006633"/>
                </a:solidFill>
                <a:latin typeface="Garamond"/>
              </a:rPr>
              <a:t>naprawić </a:t>
            </a:r>
            <a:r>
              <a:rPr b="0" lang="en-US" sz="3900" spc="-1" strike="noStrike">
                <a:solidFill>
                  <a:srgbClr val="006633"/>
                </a:solidFill>
                <a:latin typeface="Garamond"/>
              </a:rPr>
              <a:t>wyrządzone przez tytoń </a:t>
            </a:r>
            <a:r>
              <a:rPr b="1" lang="en-US" sz="3900" spc="-1" strike="noStrike">
                <a:solidFill>
                  <a:srgbClr val="006633"/>
                </a:solidFill>
                <a:latin typeface="Garamond"/>
              </a:rPr>
              <a:t>szkody</a:t>
            </a:r>
            <a:r>
              <a:rPr b="0" lang="en-US" sz="3900" spc="-1" strike="noStrike">
                <a:solidFill>
                  <a:srgbClr val="006633"/>
                </a:solidFill>
                <a:latin typeface="Garamond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 advTm="10000">
    <p:comb dir="horz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Palenie tytoniu w Polsce"/>
          <p:cNvPicPr/>
          <p:nvPr/>
        </p:nvPicPr>
        <p:blipFill>
          <a:blip r:embed="rId1"/>
          <a:stretch/>
        </p:blipFill>
        <p:spPr>
          <a:xfrm>
            <a:off x="395280" y="765000"/>
            <a:ext cx="820908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K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awie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5 mln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sób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 Polsce pali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łużej niż 20 lat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 Polsce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odzienni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czyna palić około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500 nieletnich chłopców i dziewcząt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roczni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óbuje palenia około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180.000 dzieci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zacuje się, iż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zieci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 Polsce wypalają rocznie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od 3 do 4 mld sztuk papierosów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pierosy są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jedynym legalnie sprzedawanym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środkiem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rakotwórczym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 Polsce i na świeci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10 sekund na świeci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umiera ktoś na chorobę wywołaną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aleniem tytoniu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6633"/>
                </a:solidFill>
                <a:latin typeface="Garamond"/>
              </a:rPr>
              <a:t>Opis:</a:t>
            </a:r>
            <a:r>
              <a:rPr b="0" lang="pl-PL" sz="3800" spc="-1" strike="noStrike">
                <a:solidFill>
                  <a:srgbClr val="006633"/>
                </a:solidFill>
                <a:latin typeface="Garamond"/>
              </a:rPr>
              <a:t> Tytoń, odmiana ozdobna. </a:t>
            </a:r>
            <a:r>
              <a:rPr b="1" lang="pl-PL" sz="3800" spc="-1" strike="noStrike">
                <a:solidFill>
                  <a:srgbClr val="006633"/>
                </a:solidFill>
                <a:latin typeface="Garamond"/>
              </a:rPr>
              <a:t>Autor:</a:t>
            </a:r>
            <a:r>
              <a:rPr b="0" lang="pl-PL" sz="3800" spc="-1" strike="noStrike">
                <a:solidFill>
                  <a:srgbClr val="006633"/>
                </a:solidFill>
                <a:latin typeface="Garamond"/>
              </a:rPr>
              <a:t> Mróz Andrzej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6633"/>
                </a:solidFill>
                <a:latin typeface="Garamond"/>
              </a:rPr>
              <a:t>Opis:</a:t>
            </a:r>
            <a:r>
              <a:rPr b="0" lang="pl-PL" sz="3800" spc="-1" strike="noStrike">
                <a:solidFill>
                  <a:srgbClr val="006633"/>
                </a:solidFill>
                <a:latin typeface="Garamond"/>
              </a:rPr>
              <a:t> Uprawa tytoniu szlachetnego. </a:t>
            </a:r>
            <a:r>
              <a:rPr b="1" lang="pl-PL" sz="3800" spc="-1" strike="noStrike">
                <a:solidFill>
                  <a:srgbClr val="006633"/>
                </a:solidFill>
                <a:latin typeface="Garamond"/>
              </a:rPr>
              <a:t>Autor:</a:t>
            </a:r>
            <a:r>
              <a:rPr b="0" lang="pl-PL" sz="3800" spc="-1" strike="noStrike">
                <a:solidFill>
                  <a:srgbClr val="006633"/>
                </a:solidFill>
                <a:latin typeface="Garamond"/>
              </a:rPr>
              <a:t> Najder Jerzy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769080" cy="432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ikotyna     -       NC5H4-C4H7N-CH3  1-metylo-2-(β-pirydylo)-pirolidyn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YKL UZALEŻNIENIA OD NIKOTYN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453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006633"/>
                </a:solidFill>
                <a:latin typeface="Garamond"/>
              </a:rPr>
              <a:t>Test uzależnień Fagerstro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-186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1125360"/>
          <a:ext cx="8352000" cy="4870800"/>
        </p:xfrm>
        <a:graphic>
          <a:graphicData uri="http://schemas.openxmlformats.org/drawingml/2006/table">
            <a:tbl>
              <a:tblPr/>
              <a:tblGrid>
                <a:gridCol w="4319640"/>
                <a:gridCol w="2160720"/>
                <a:gridCol w="18716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3b81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powiedz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3b81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k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3b812f">
                        <a:alpha val="50000"/>
                      </a:srgbClr>
                    </a:solidFill>
                  </a:tcPr>
                </a:tc>
              </a:tr>
              <a:tr h="379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ak szybko po przebudzeniu zapalasz zazwyczaj pierwszego papierosa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ciągu 30 minu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56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30 minutac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379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zy sprawia Ci trudność powstrzymanie się od palenia tytoniu w miejscach publicznych, w których obowiązuje zakaz palenia (np. kościół, biblioteka, kino)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11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379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 którego papierosa byłoby Ci najtrudniej zrezygnować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pierwszego ra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każdego inneg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379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le papierosó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wypalasz w ciągu dnia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iej niż 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2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ad 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000"/>
                      </a:solidFill>
                    </a:lnL>
                    <a:lnR w="4320">
                      <a:solidFill>
                        <a:srgbClr val="008000"/>
                      </a:solidFill>
                    </a:lnR>
                    <a:lnT w="4320">
                      <a:solidFill>
                        <a:srgbClr val="008000"/>
                      </a:solidFill>
                    </a:lnT>
                    <a:lnB w="4320">
                      <a:solidFill>
                        <a:srgbClr val="008000"/>
                      </a:solidFill>
                    </a:lnB>
                    <a:solidFill>
                      <a:srgbClr val="cc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455720" y="8252640"/>
            <a:ext cx="231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0:38:07Z</dcterms:created>
  <dc:creator>Pracownia_106</dc:creator>
  <dc:description/>
  <dc:language>en-US</dc:language>
  <cp:lastModifiedBy>Pracownia_106</cp:lastModifiedBy>
  <dcterms:modified xsi:type="dcterms:W3CDTF">2002-08-23T10:05:23Z</dcterms:modified>
  <cp:revision>3</cp:revision>
  <dc:subject/>
  <dc:title>PAPIEROS – nie dziękuję!</dc:title>
</cp:coreProperties>
</file>